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AC3-A0C7-4D53-A904-8F971CAB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91A-D39D-4689-A395-BDA53408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07C-4AF9-41C3-8D26-AB3D732A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725E-1BC8-4392-A36A-22D2C906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80BF-6541-40DA-9847-87638ABD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A73-5C02-491E-A1E9-4967048C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9F34-0A64-46FC-948E-34586D86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319-D882-4EB8-9ABF-AA34A660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9EC-1AF5-47F6-A722-B34F808F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9D6-1F4D-4533-91DD-F54AF3B8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A0A-ECBB-4E89-9077-6A39439A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864-2B74-40AE-B6BE-0B6D4A85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1311-A404-4404-A579-C48CD98C5B3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AİLESİ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ONU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SEVERDİ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KURUMUŞ BİR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ÇİÇEK BULDUM, MEKTUPLARIN ARASIND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KURUYAN YAPRAKLAR, YEŞERMEZ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GERİ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MECNUN'A DÖNDERDİ, BU SEVDA BENİ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NAZLI YÂRİM YİNE AKLIMA GELDİ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ÖNERİLERLE PATRONUNA GİTTİ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SALİH, YİĞİT BİR ADAMD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f"/>
          </a:solidFill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MERHAMET ETMİYOR GÖZYAŞIMA.</a:t>
            </a:r>
            <a:br>
              <a:rPr sz="3800"/>
            </a:br>
            <a:br>
              <a:rPr sz="3800"/>
            </a:b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MİLLET YÜRÜYECEK ARKANDAN.</a:t>
            </a:r>
            <a:br>
              <a:rPr sz="3800"/>
            </a:br>
            <a:br>
              <a:rPr sz="3800"/>
            </a:b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NİYE KÜSTÜN BANA EL SÖZÜ İÇİN?</a:t>
            </a:r>
            <a:br>
              <a:rPr sz="3800"/>
            </a:br>
            <a:br>
              <a:rPr sz="3800"/>
            </a:b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MERAK ETME SEN.</a:t>
            </a:r>
            <a:br>
              <a:rPr sz="3800"/>
            </a:br>
            <a:br>
              <a:rPr sz="3800"/>
            </a:br>
            <a:r>
              <a:rPr b="1" lang="tr-TR" sz="3800" spc="-1" strike="noStrike">
                <a:solidFill>
                  <a:srgbClr val="000000"/>
                </a:solidFill>
                <a:latin typeface="Arial"/>
              </a:rPr>
              <a:t>O GÜN HERKES ANLADI GERÇEĞİ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ADAM, TELEFONU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İCAT ETMİŞ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HİÇBİR ZAMAN HAYIR GELMEZ ONDA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DOKTOR BULAMADI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ANA İLAC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İKİ SAAT DERS ÇALIŞT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KİMDE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UNUTTUM KALBİMİ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KİMSE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SAHİP ÇIKMADI BURALAR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KÖYLÜ,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MİLLETİN EFENDİSİDİ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KUPKURU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İR AĞACIN DALIY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1-01T21:45:57Z</dcterms:modified>
  <cp:revision>102</cp:revision>
  <dc:subject/>
  <dc:title>KONU 1</dc:title>
</cp:coreProperties>
</file>